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86D-387E-4CB9-A238-576FBD44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7C4-13FA-4886-B6DF-74CC152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ACE-C074-498F-942A-9A9F454C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D72-C4E4-45C9-A6B7-1E3A56C6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23C-7274-4374-9A77-A6CEE83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E8F-15D5-48AD-B7B4-2BED83C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844-1A88-4C85-833E-5A57D877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F2E-085B-4856-A12E-4AEDFA5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8C5-3B82-42A6-BC7E-77ABCDD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790-CF0A-47B9-8CCD-6A5C5B4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C3D-DFE0-428E-AF88-5689ECB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9A0-2C7D-4D29-9C79-815B469B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483-BA5E-4CFA-817A-993E646C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The Risk Functio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ed on a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27432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0" y="60958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0" y="28195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391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2388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125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23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7162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01064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4724280"/>
            <a:ext cx="1447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086600" cy="106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5845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086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8960" y="2971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type of risk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105520"/>
            <a:ext cx="4724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57200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5029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86600" y="51055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0720" y="838080"/>
            <a:ext cx="525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umerical Example of a Risk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9436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44:28Z</dcterms:modified>
  <cp:revision>43</cp:revision>
  <dc:subject/>
  <dc:title>PowerPoint Presentation</dc:title>
</cp:coreProperties>
</file>